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hyperlink" Target="https://paviter.wikispaces.com/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hyperlink" Target="https://paviter.wikispaces.com/" TargetMode="External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hyperlink" Target="https://paviter.wikispaces.com/" TargetMode="External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hyperlink" Target="http://www.ning.com/" TargetMode="External"/><Relationship Id="rId5" Type="http://schemas.openxmlformats.org/officeDocument/2006/relationships/hyperlink" Target="http://globaleducation.ning.com/" TargetMode="External"/><Relationship Id="rId6" Type="http://schemas.openxmlformats.org/officeDocument/2006/relationships/hyperlink" Target="http://globaleducation.ning.com/" TargetMode="External"/><Relationship Id="rId7" Type="http://schemas.openxmlformats.org/officeDocument/2006/relationships/hyperlink" Target="http://globaleducation.ning.com/" TargetMode="External"/><Relationship Id="rId8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hyperlink" Target="http://www.ning.com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hyperlink" Target="https://paviter.wikispaces.com/" TargetMode="External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0320" y="1117440"/>
            <a:ext cx="8602560" cy="645192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796248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Web 2.0 Teaser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6489720" y="5816520"/>
            <a:ext cx="59943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5479920" y="419040"/>
            <a:ext cx="6363000" cy="18176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800280" y="3200400"/>
            <a:ext cx="11391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9999"/>
                </a:solidFill>
                <a:uFillTx/>
                <a:latin typeface="Myriad Set Bold"/>
                <a:ea typeface="Myriad Set Bold"/>
                <a:hlinkClick r:id="rId4"/>
              </a:rPr>
              <a:t>https://paviter.wikispaces.com</a:t>
            </a: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341280" y="4546440"/>
            <a:ext cx="9285480" cy="4419720"/>
          </a:xfrm>
          <a:prstGeom prst="rect">
            <a:avLst/>
          </a:prstGeom>
          <a:ln w="38160">
            <a:solidFill>
              <a:srgbClr val="5f7226"/>
            </a:solidFill>
            <a:miter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7709040" y="6172200"/>
            <a:ext cx="5101920" cy="660240"/>
          </a:xfrm>
          <a:prstGeom prst="rect">
            <a:avLst/>
          </a:prstGeom>
          <a:ln w="38160">
            <a:solidFill>
              <a:srgbClr val="5f7226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5479920" y="419040"/>
            <a:ext cx="6363000" cy="181764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079960" y="1968480"/>
            <a:ext cx="7188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Myriad Set Bold"/>
                <a:ea typeface="Myriad Set Bold"/>
                <a:hlinkClick r:id="rId4"/>
              </a:rPr>
              <a:t>https://paviter.wikispaces.com</a:t>
            </a:r>
            <a:r>
              <a:rPr b="0" lang="en-US" sz="3600" spc="-1" strike="noStrike">
                <a:solidFill>
                  <a:srgbClr val="5f7226"/>
                </a:solidFill>
                <a:latin typeface="Myriad Set Bold"/>
                <a:ea typeface="Myriad Se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3530520"/>
            <a:ext cx="125092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Myriad Set TextItalic"/>
                <a:ea typeface="Myriad Set TextItalic"/>
              </a:rPr>
              <a:t>In a literature class a teacher used the wiki as a place for students to more deeply analyze texts. Individual passages from the texts were posted on the wiki. 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Myriad Set TextItalic"/>
                <a:ea typeface="Myriad Set TextItalic"/>
              </a:rPr>
              <a:t>The students would then highlight a word or phrase from those passages and interpret it. 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Myriad Set TextItalic"/>
                <a:ea typeface="Myriad Set TextItalic"/>
              </a:rPr>
              <a:t>Students read their colleagues' interpretations and responded to them, creating a dialogue out of class that further enriched the in-class discussions.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5479920" y="419040"/>
            <a:ext cx="6363000" cy="18176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5079960" y="1968480"/>
            <a:ext cx="7188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Myriad Set Bold"/>
                <a:ea typeface="Myriad Set Bold"/>
                <a:hlinkClick r:id="rId4"/>
              </a:rPr>
              <a:t>https://paviter.wikispaces.com</a:t>
            </a:r>
            <a:r>
              <a:rPr b="0" lang="en-US" sz="3600" spc="-1" strike="noStrike">
                <a:solidFill>
                  <a:srgbClr val="5f7226"/>
                </a:solidFill>
                <a:latin typeface="Myriad Set Bold"/>
                <a:ea typeface="Myriad Se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673200" y="4311720"/>
            <a:ext cx="1164564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What other ways can we use a wiki?</a:t>
            </a:r>
            <a:endParaRPr b="0" lang="en-US" sz="9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7432560" y="244440"/>
            <a:ext cx="5148360" cy="3861000"/>
          </a:xfrm>
          <a:prstGeom prst="rect">
            <a:avLst/>
          </a:prstGeom>
          <a:ln w="38160">
            <a:solidFill>
              <a:srgbClr val="396b38"/>
            </a:solidFill>
            <a:miter/>
          </a:ln>
          <a:effectLst>
            <a:outerShdw dist="152225" dir="2700000" blurRad="0" rotWithShape="0">
              <a:srgbClr val="000000">
                <a:alpha val="34000"/>
              </a:srgbClr>
            </a:outerShdw>
          </a:effectLst>
        </p:spPr>
      </p:pic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4584600" y="10523520"/>
            <a:ext cx="5092920" cy="3535560"/>
          </a:xfrm>
          <a:prstGeom prst="rect">
            <a:avLst/>
          </a:prstGeom>
          <a:ln w="38160">
            <a:solidFill>
              <a:srgbClr val="4f76a0"/>
            </a:solidFill>
            <a:miter/>
          </a:ln>
        </p:spPr>
      </p:pic>
      <p:sp>
        <p:nvSpPr>
          <p:cNvPr id="587" name=""/>
          <p:cNvSpPr/>
          <p:nvPr/>
        </p:nvSpPr>
        <p:spPr>
          <a:xfrm>
            <a:off x="800280" y="4673520"/>
            <a:ext cx="1139184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Like Facebook but more secure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Can set up closed network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Share media &amp; document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Discussion Board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Can be regulated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5850000" y="1555560"/>
            <a:ext cx="143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88926"/>
                </a:solidFill>
                <a:latin typeface="Myriad Set Bold"/>
                <a:ea typeface="Myriad Set Bold"/>
              </a:rPr>
              <a:t>Ning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7432560" y="244440"/>
            <a:ext cx="5148360" cy="3861000"/>
          </a:xfrm>
          <a:prstGeom prst="rect">
            <a:avLst/>
          </a:prstGeom>
          <a:ln w="38160">
            <a:solidFill>
              <a:srgbClr val="396b38"/>
            </a:solidFill>
            <a:miter/>
          </a:ln>
          <a:effectLst>
            <a:outerShdw dist="152225" dir="2700000" blurRad="0" rotWithShape="0">
              <a:srgbClr val="000000">
                <a:alpha val="34000"/>
              </a:srgbClr>
            </a:outerShdw>
          </a:effectLst>
        </p:spPr>
      </p:pic>
      <p:sp>
        <p:nvSpPr>
          <p:cNvPr id="592" name=""/>
          <p:cNvSpPr/>
          <p:nvPr/>
        </p:nvSpPr>
        <p:spPr>
          <a:xfrm>
            <a:off x="800280" y="4673520"/>
            <a:ext cx="1139184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9999"/>
                </a:solidFill>
                <a:uFillTx/>
                <a:latin typeface="Myriad Set Bold"/>
                <a:ea typeface="Myriad Set Bold"/>
                <a:hlinkClick r:id="rId4"/>
              </a:rPr>
              <a:t>http://www.ning.com</a:t>
            </a: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/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Myriad Set Bold"/>
                <a:ea typeface="Myriad Set Bold"/>
              </a:rPr>
              <a:t>http://globaleducat</a:t>
            </a:r>
            <a:r>
              <a:rPr b="0" lang="en-US" sz="5000" spc="-1" strike="noStrike" u="sng">
                <a:solidFill>
                  <a:srgbClr val="009999"/>
                </a:solidFill>
                <a:uFillTx/>
                <a:latin typeface="Myriad Set Bold"/>
                <a:ea typeface="Myriad Set Bold"/>
                <a:hlinkClick r:id="rId5"/>
              </a:rPr>
              <a:t>ion.ning.com</a:t>
            </a:r>
            <a:r>
              <a:rPr b="0" lang="en-US" sz="5000" spc="-1" strike="noStrike" u="sng">
                <a:solidFill>
                  <a:srgbClr val="009999"/>
                </a:solidFill>
                <a:uFillTx/>
                <a:latin typeface="Myriad Set Bold"/>
                <a:ea typeface="Myriad Set Bold"/>
                <a:hlinkClick r:id="rId6"/>
              </a:rPr>
              <a:t>/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9999"/>
                </a:solidFill>
                <a:uFillTx/>
                <a:latin typeface="Myriad Set Bold"/>
                <a:ea typeface="Myriad Set Bold"/>
                <a:hlinkClick r:id="rId7"/>
              </a:rPr>
              <a:t>http://www.classr</a:t>
            </a:r>
            <a:r>
              <a:rPr b="0" lang="en-US" sz="5000" spc="-1" strike="noStrike" u="sng">
                <a:solidFill>
                  <a:srgbClr val="000000"/>
                </a:solidFill>
                <a:uFillTx/>
                <a:latin typeface="Myriad Set Bold"/>
                <a:ea typeface="Myriad Set Bold"/>
              </a:rPr>
              <a:t>oom20.com</a:t>
            </a: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/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5646960" y="1606320"/>
            <a:ext cx="143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88926"/>
                </a:solidFill>
                <a:latin typeface="Myriad Set Bold"/>
                <a:ea typeface="Myriad Set Bold"/>
              </a:rPr>
              <a:t>Ning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sp>
        <p:nvSpPr>
          <p:cNvPr id="596" name=""/>
          <p:cNvSpPr/>
          <p:nvPr/>
        </p:nvSpPr>
        <p:spPr>
          <a:xfrm>
            <a:off x="800280" y="4673520"/>
            <a:ext cx="1139184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9999"/>
                </a:solidFill>
                <a:uFillTx/>
                <a:latin typeface="Myriad Set Bold"/>
                <a:ea typeface="Myriad Set Bold"/>
                <a:hlinkClick r:id="rId3"/>
              </a:rPr>
              <a:t>http://www.ali.apple.com</a:t>
            </a:r>
            <a:r>
              <a:rPr b="0" lang="en-US" sz="5000" spc="-1" strike="noStrike">
                <a:solidFill>
                  <a:srgbClr val="1900ff"/>
                </a:solidFill>
                <a:latin typeface="Myriad Set Bold"/>
                <a:ea typeface="Myriad Set Bold"/>
              </a:rPr>
              <a:t>/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Create open or closed network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Share files, forum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Large repository of lesson plans &amp; media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4"/>
          <a:stretch/>
        </p:blipFill>
        <p:spPr>
          <a:xfrm>
            <a:off x="7543800" y="279360"/>
            <a:ext cx="5092560" cy="3533760"/>
          </a:xfrm>
          <a:prstGeom prst="rect">
            <a:avLst/>
          </a:prstGeom>
          <a:ln w="38160">
            <a:solidFill>
              <a:srgbClr val="4f76a0"/>
            </a:solidFill>
            <a:miter/>
          </a:ln>
        </p:spPr>
      </p:pic>
      <p:sp>
        <p:nvSpPr>
          <p:cNvPr id="598" name=""/>
          <p:cNvSpPr/>
          <p:nvPr/>
        </p:nvSpPr>
        <p:spPr>
          <a:xfrm>
            <a:off x="4089240" y="1289160"/>
            <a:ext cx="3391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981c5"/>
                </a:solidFill>
                <a:latin typeface="Myriad Set Bold"/>
                <a:ea typeface="Myriad Set Bold"/>
              </a:rPr>
              <a:t>Apple Learning Interchange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sp>
        <p:nvSpPr>
          <p:cNvPr id="601" name=""/>
          <p:cNvSpPr/>
          <p:nvPr/>
        </p:nvSpPr>
        <p:spPr>
          <a:xfrm>
            <a:off x="6710400" y="1162080"/>
            <a:ext cx="5423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Google App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5661000" y="330120"/>
            <a:ext cx="2057400" cy="22989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66760" y="3708360"/>
            <a:ext cx="1253484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900ff"/>
                </a:solidFill>
                <a:latin typeface="Myriad Set Bold"/>
                <a:ea typeface="Myriad Set Bold"/>
              </a:rPr>
              <a:t>http://www.google.com/educators/tools.html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Calendar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Docs, Spreadsheets, Forms, Presentation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Map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Page Creator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Custom Search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sp>
        <p:nvSpPr>
          <p:cNvPr id="606" name=""/>
          <p:cNvSpPr/>
          <p:nvPr/>
        </p:nvSpPr>
        <p:spPr>
          <a:xfrm>
            <a:off x="5689440" y="1351080"/>
            <a:ext cx="40118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Del.icio.us</a:t>
            </a:r>
            <a:endParaRPr b="0" lang="en-US" sz="6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3"/>
          <a:stretch/>
        </p:blipFill>
        <p:spPr>
          <a:xfrm>
            <a:off x="10045800" y="660240"/>
            <a:ext cx="2413080" cy="2413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800280" y="3530520"/>
            <a:ext cx="1139184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1900ff"/>
                </a:solidFill>
                <a:uFillTx/>
                <a:latin typeface="Myriad Set Bold"/>
                <a:ea typeface="Myriad Set Bold"/>
              </a:rPr>
              <a:t>http://delicious.com</a:t>
            </a:r>
            <a:r>
              <a:rPr b="0" lang="en-US" sz="5000" spc="-1" strike="noStrike">
                <a:solidFill>
                  <a:srgbClr val="1900ff"/>
                </a:solidFill>
                <a:latin typeface="Myriad Set Bold"/>
                <a:ea typeface="Myriad Set Bold"/>
              </a:rPr>
              <a:t>/ 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Social Bookmarking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Share resources with other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Get students to share with each other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Get students to read and comment on articles bookmarked by other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099200" y="269244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2487600" y="3809880"/>
            <a:ext cx="589752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8051760" y="10152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4635360" y="1434960"/>
            <a:ext cx="4241880" cy="20829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673200" y="5721480"/>
            <a:ext cx="1164564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Feedback Form</a:t>
            </a:r>
            <a:endParaRPr b="0" lang="en-US" sz="7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 u="sng">
                <a:solidFill>
                  <a:srgbClr val="000000"/>
                </a:solidFill>
                <a:uFillTx/>
                <a:latin typeface="Myriad Set Bold"/>
                <a:ea typeface="Myriad Set Bold"/>
              </a:rPr>
              <a:t>http://www.tinyurl.com/sacss</a:t>
            </a:r>
            <a:endParaRPr b="0" lang="en-US" sz="7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269720" y="34030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Collabora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Content Crea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80880" y="876240"/>
            <a:ext cx="125748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359000" y="1155600"/>
            <a:ext cx="4368600" cy="1994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959520" y="420372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790640" y="2625840"/>
            <a:ext cx="6451560" cy="30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1269720" y="34030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Multiple Author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Editing is Quick &amp; Easy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80880" y="876240"/>
            <a:ext cx="125748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359000" y="1155600"/>
            <a:ext cx="4368600" cy="1994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139680" y="3365280"/>
            <a:ext cx="11391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Structured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Dynamic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Engaging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0604520" y="609480"/>
            <a:ext cx="2158920" cy="21592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6603840" y="1104840"/>
            <a:ext cx="4648320" cy="18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00280" y="3619080"/>
            <a:ext cx="11391840" cy="551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Learning Communitie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Peer to Peer Learning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Quick Feedback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Balances the playing field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4606920" y="723960"/>
            <a:ext cx="61977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586f5"/>
                </a:solidFill>
                <a:latin typeface="Myriad Set Bold"/>
                <a:ea typeface="Myriad Set Bold"/>
              </a:rPr>
              <a:t>Education</a:t>
            </a:r>
            <a:endParaRPr b="0" lang="en-US" sz="1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3730680" y="787320"/>
            <a:ext cx="91566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3586f5"/>
                </a:solidFill>
                <a:latin typeface="Myriad Set Bold"/>
                <a:ea typeface="Myriad Set Bold"/>
              </a:rPr>
              <a:t>Our Objectives</a:t>
            </a:r>
            <a:endParaRPr b="0" lang="en-US" sz="9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800280" y="3619080"/>
            <a:ext cx="11391840" cy="551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Understand what is Web 2.0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Be able to name at least 4 Web 2.0 tool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Be confident in using at least 1 tool learnt today for Teaching 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To share how you have used the tool(s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sp>
        <p:nvSpPr>
          <p:cNvPr id="548" name=""/>
          <p:cNvSpPr/>
          <p:nvPr/>
        </p:nvSpPr>
        <p:spPr>
          <a:xfrm>
            <a:off x="3730680" y="787320"/>
            <a:ext cx="91566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3586f5"/>
                </a:solidFill>
                <a:latin typeface="Myriad Set Bold"/>
                <a:ea typeface="Myriad Set Bold"/>
              </a:rPr>
              <a:t>Plan for Today</a:t>
            </a:r>
            <a:endParaRPr b="0" lang="en-US" sz="9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800280" y="3619080"/>
            <a:ext cx="11391840" cy="551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Introduce several Web 2.0 tool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Examples of how they can be used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Work in groups </a:t>
            </a:r>
            <a:r>
              <a:rPr b="0" lang="en-US" sz="5000" spc="-1" strike="noStrike">
                <a:solidFill>
                  <a:srgbClr val="b6190d"/>
                </a:solidFill>
                <a:latin typeface="Myriad Set Bold"/>
                <a:ea typeface="Myriad Set Bold"/>
              </a:rPr>
              <a:t>(if time permits)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Q &amp; A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Feedback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sp>
        <p:nvSpPr>
          <p:cNvPr id="552" name=""/>
          <p:cNvSpPr/>
          <p:nvPr/>
        </p:nvSpPr>
        <p:spPr>
          <a:xfrm>
            <a:off x="3997440" y="507960"/>
            <a:ext cx="91566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3586f5"/>
                </a:solidFill>
                <a:latin typeface="Myriad Set Bold"/>
                <a:ea typeface="Myriad Set Bold"/>
              </a:rPr>
              <a:t>Web 2.0</a:t>
            </a:r>
            <a:endParaRPr b="0" lang="en-US" sz="9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6026040" y="7429680"/>
            <a:ext cx="4400640" cy="12571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355680" y="5705640"/>
            <a:ext cx="4198680" cy="3149280"/>
          </a:xfrm>
          <a:prstGeom prst="rect">
            <a:avLst/>
          </a:prstGeom>
          <a:ln w="38160">
            <a:solidFill>
              <a:srgbClr val="396b38"/>
            </a:solidFill>
            <a:miter/>
          </a:ln>
          <a:effectLst>
            <a:outerShdw dist="152225" dir="2700000" blurRad="0" rotWithShape="0">
              <a:srgbClr val="000000">
                <a:alpha val="34000"/>
              </a:srgbClr>
            </a:outerShdw>
          </a:effectLst>
        </p:spPr>
      </p:pic>
      <p:sp>
        <p:nvSpPr>
          <p:cNvPr id="555" name=""/>
          <p:cNvSpPr/>
          <p:nvPr/>
        </p:nvSpPr>
        <p:spPr>
          <a:xfrm>
            <a:off x="363600" y="4933800"/>
            <a:ext cx="143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88926"/>
                </a:solidFill>
                <a:latin typeface="Myriad Set Bold"/>
                <a:ea typeface="Myriad Set Bold"/>
              </a:rPr>
              <a:t>Ning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5413320" y="3695400"/>
            <a:ext cx="230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Google 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App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7366320" y="6108480"/>
            <a:ext cx="304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Del.icio.us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5"/>
          <a:stretch/>
        </p:blipFill>
        <p:spPr>
          <a:xfrm>
            <a:off x="10909440" y="568944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6"/>
          <a:stretch/>
        </p:blipFill>
        <p:spPr>
          <a:xfrm>
            <a:off x="3781440" y="2705040"/>
            <a:ext cx="2057400" cy="22986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7"/>
          <a:stretch/>
        </p:blipFill>
        <p:spPr>
          <a:xfrm>
            <a:off x="9283680" y="1855800"/>
            <a:ext cx="3441600" cy="2389320"/>
          </a:xfrm>
          <a:prstGeom prst="rect">
            <a:avLst/>
          </a:prstGeom>
          <a:ln w="38160">
            <a:solidFill>
              <a:srgbClr val="4f76a0"/>
            </a:solidFill>
            <a:miter/>
          </a:ln>
        </p:spPr>
      </p:pic>
      <p:sp>
        <p:nvSpPr>
          <p:cNvPr id="561" name=""/>
          <p:cNvSpPr/>
          <p:nvPr/>
        </p:nvSpPr>
        <p:spPr>
          <a:xfrm>
            <a:off x="9461520" y="4375080"/>
            <a:ext cx="339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81c5"/>
                </a:solidFill>
                <a:latin typeface="Myriad Set Bold"/>
                <a:ea typeface="Myriad Set Bold"/>
              </a:rPr>
              <a:t>Apple Learning Interchang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616120" y="66024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307800" y="431640"/>
            <a:ext cx="2372040" cy="1778040"/>
          </a:xfrm>
          <a:prstGeom prst="rect">
            <a:avLst/>
          </a:prstGeom>
          <a:ln w="38160">
            <a:solidFill>
              <a:srgbClr val="e5641e"/>
            </a:solidFill>
            <a:miter/>
          </a:ln>
        </p:spPr>
      </p:pic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5479920" y="419040"/>
            <a:ext cx="6363000" cy="18176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5079960" y="1968480"/>
            <a:ext cx="7188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Myriad Set Bold"/>
                <a:ea typeface="Myriad Set Bold"/>
                <a:hlinkClick r:id="rId4"/>
              </a:rPr>
              <a:t>https://paviter.wikispaces.com</a:t>
            </a:r>
            <a:r>
              <a:rPr b="0" lang="en-US" sz="3600" spc="-1" strike="noStrike">
                <a:solidFill>
                  <a:srgbClr val="5f7226"/>
                </a:solidFill>
                <a:latin typeface="Myriad Set Bold"/>
                <a:ea typeface="Myriad Se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4940280"/>
            <a:ext cx="129920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yriad Set Bold"/>
                <a:ea typeface="Myriad Set Bold"/>
              </a:rPr>
              <a:t>How does a wiki work?</a:t>
            </a:r>
            <a:endParaRPr b="0" lang="en-US" sz="9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